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EE8-EF83-484A-8370-5F642C83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454-BC9C-45F4-A686-67CB9FFA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880-5F30-4342-885C-FE3AF13C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8D7-9CBC-4FF0-AAA4-C4CD058E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C2E-403F-4240-BF4E-2C049367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CEC-B296-4CCB-BABE-AA414A15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02E-C17D-4F54-9086-00995969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AF9-F514-45BE-B57C-523E9EA8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D1A-74EA-4797-B216-27A02A7D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F7D-0813-4586-930F-8E15BC0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628-E5E5-4C91-8DF1-899ED4E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986-C4EA-448E-8813-D598526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D41F-71B3-4E6B-A1DE-856356BA0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and Heredity Less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10/30/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Mendel and Monohybrid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: Monohybrid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 1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 To  complete monohybrid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 11/2/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: Practice monohybrid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:  define homozygous dominant, heterozygous, and homozygous re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hybrid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Monohybr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:  Human Characteristic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 1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:  Discuss how probability determines our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: p 269 # 1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uma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:  ‘aardpig w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 1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Guide Chapt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 Cro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to Genetic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7:05:29Z</dcterms:created>
  <dc:creator>Tera Linn</dc:creator>
  <dc:description/>
  <dc:language>en-US</dc:language>
  <cp:lastModifiedBy>Tera Linn</cp:lastModifiedBy>
  <dcterms:modified xsi:type="dcterms:W3CDTF">2009-11-04T18:09:54Z</dcterms:modified>
  <cp:revision>4</cp:revision>
  <dc:subject/>
  <dc:title>Genetics and Heredity Lesson Plans</dc:title>
</cp:coreProperties>
</file>